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dt" idx="40"/>
          </p:nvPr>
        </p:nvSpPr>
        <p:spPr>
          <a:xfrm>
            <a:off x="3847680" y="-360"/>
            <a:ext cx="29480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 type="ftr" idx="41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6"/>
          <p:cNvSpPr>
            <a:spLocks noGrp="1"/>
          </p:cNvSpPr>
          <p:nvPr>
            <p:ph type="sldNum" idx="42"/>
          </p:nvPr>
        </p:nvSpPr>
        <p:spPr>
          <a:xfrm>
            <a:off x="384768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FDED27-CA3F-435A-8ABB-45AC297EC447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投影片編號版面配置區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CA958A-09F2-432C-8FA5-75F7142F0D4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5A1-0B06-4CB3-B31E-95799273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415-AAA2-4EAE-96CA-E0C4314B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BC83BE-FFEB-4273-A2BA-2A7F56177DE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CD7A24-D378-4185-AF5B-65BD749106F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468A8A-2AEF-4B99-A299-1216F7B14E9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CCC197-70C7-427B-AB0A-38377C7F35A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5C1327-C906-4D46-BC16-3C64B53C5EC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C8202A-A2FE-4ED7-8132-1D824B6AA53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CDF121-B1BB-4F42-8511-009C73180CC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31240-7D32-4AC1-AB01-115076A4E4C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A68495-7880-4BAB-B714-4D10DBBAE41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AD734-90F5-4FB3-AECE-D1690F510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D156-74E0-4D57-A3C0-4236F998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A8406-B2A4-4C31-B170-BC3C1B9A159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F36DB-8708-480A-8AD1-3ACEAE9E79B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74339-7430-4389-A42B-135B0E09ECD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29DDE-CFAC-4D5A-98FB-C2A1B662618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2E020-E637-4159-90F6-842CBFF6D7E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4C97B-EFBA-4A28-AE76-93F839C0F57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22351-FABD-41B1-8B7C-6F8357142D5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DBB0E-ED2C-4650-B5F1-3DB7AFE77A6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38976-8CB2-43C2-89A6-3D498372138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4E828-C94C-4918-A260-EE4933A29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DF60-1428-4032-95FB-FE5F466D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87957-1BB2-4DA3-832D-33E59E6B506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5185A5-FC36-4142-9C6B-87270C72C72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B49415-9275-4602-9DA7-8FEF3113DA4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0CB757-84BF-4479-BE04-9F4599EF6C4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59B15B-B025-4DEC-9989-547CCFF1A3B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59C92B-7AE9-4CBD-BFA9-D8C86C536D3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26A375-9B53-4682-B0D1-561B10A06AF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DD010E-A09B-40BB-9755-E633B30051D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5AF3A7-E5FF-458B-8209-31C5D5211F8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18B3D0-3E13-4BF9-8B63-457CCCDCA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CDA8B-7B4C-4F8D-A483-6E6DA6D3BDA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9F240C-0128-4EEF-A538-F6994E41911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A936F8-D02C-45B4-98D0-2CB71D399AE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390187-1413-4D72-A217-9F7AEA5E289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C1F39-088F-4B4A-9435-07ECDCE8007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857D0-92DB-42F6-9619-0B2D047537F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74A5CE-EA21-4A8A-9C54-784DB77A4FC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01683E-C6BC-42C9-8A69-82B4907B44A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11B7D7-4F86-4BCD-801B-B6910FC4EA1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B20D46-3BA4-42F9-946C-B09656D6F44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5DD6E7-5E39-4BA9-BD30-6087BAE65D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BF08C-3D0D-4EE6-8F73-BE67E66325E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F0F47-3457-4AD7-88CD-3226EDD13D2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5C141-2375-41D5-A1A9-2CEBF93C197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9B07E1-30C8-4006-87C6-B3E64C2E534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81505-AC6C-418F-B746-1F96C3519AC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37355-3ADF-4592-A77D-B8549A39491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CAE63-B064-4D9D-ABFD-A81C3D015BA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5C722-6389-4ECD-A0CD-2337475B0A4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F4C10-1FCA-4CCD-A619-77EAB365645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793A1-4AD0-46BB-B181-F633560ABE4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C5D4D-69F8-4579-AB45-C20F479C07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D8B06-32F1-4021-8AF4-4C930A508B7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7677C-E6A2-4BC3-A058-92A578BB5DD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AF633-1588-4EC3-B6BC-224FC13EEF6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0708E-228B-4F94-A573-91F0B953328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A13A1-5576-49A2-8E08-6DA1A1D8223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16853-3380-429B-8DE8-773D3CA69FD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BBC4E-794E-4F8F-9040-6566BCCF1E0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054A4-988B-436C-A262-90F8CB2D720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F11DD3-8AB9-406A-99D2-CB74AC0A912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3690AC-8B17-4A59-BEBF-C302597C27A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A3FE40-5790-4134-8D59-761CFE0513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BCC7A-E98A-4EE5-BE07-B335E462B09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EE0BAF-6637-4C96-B4FD-CD868BC8DE5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043564-2EC6-42D5-9A7F-7887633820C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A5B3DD-01D1-4FBA-880A-8A1F128DDC9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F1686C-9D81-44B3-BC4F-96662055699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D0ED80-0D33-474C-A419-76F1F6AAB18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B7FA59-4F4E-45DC-9481-8490031E2F2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28C59C-126B-48F0-87CE-A33EBBC0082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6C0BA8-8F96-4455-907E-39BB02C0064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D11684-808E-4E27-8670-3E807092086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6A9DC-F8FD-47BF-AAD7-9162AD7A0A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CBBDA-D803-4F79-93E6-FBDA95CE97F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DAACCF-F2C8-4775-B077-BA060FF6FF4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0FD521-8F3B-4CDB-80F1-D37CA0D35D2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3391B-4A78-4EC7-A317-2C147B45049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E8D1D7-8E9D-4818-9569-E0509C28249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E19B1A-CC3C-4E43-B4DD-0964750B705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C56807-CC24-4244-8775-F49E08F172F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91B848-1D66-4832-A976-8487454D4B0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BD6B88-91C4-4C25-B37D-4DB4522F258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CC01DD-9462-4221-A5F6-3346834BC33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B27F9-83C4-4EA5-9383-6140ACF516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DAC5C-AE46-49F7-90F1-CC7D5AFFC08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B815F-AAAD-4E3E-A814-959EB62E802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9E783-9546-4C9A-A568-B6369288DF1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7E4D0-BE3F-4752-9DF6-C92E9369102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0760B-2A88-44F7-BB6E-14DACB452D9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83022-6CB2-4792-80C5-2155E171988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B9A1F-89A3-423E-A2D6-E431D312591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C7416-10DB-4148-9BD8-0FCEDDC77CE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1A270-F5FA-4218-89EE-83DD165B076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41F60-ECEB-4CE3-9F61-93151F02A43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B5DAA-F063-4AAB-8D71-2B0D299925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D3A1F-24BD-4D6A-9480-459D70958FB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2F576-CF98-4B40-A044-C5BCEA1D500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05C1E-436D-4C68-BD02-7AFF7982472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BB264-9989-4EB7-A007-2805403D6A2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755EA1-AD59-4FDA-A4EB-3483FB84633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C7C9AB-2461-483F-843B-88B6A78D671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D4B1D3-BA81-416A-83B0-12035765987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CEB119-72AC-4D28-8686-48FCEF3AEF8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B36151-0E6A-466F-956B-0D58C9456CD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8CEE73-AE85-4A09-B643-0CC62EA6699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DF1F7B-CE1F-4FD6-8901-CA0E0E56CA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587-7E2F-4308-AD7F-38F660A7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49FE0-BA34-4D6A-81F0-59744FEB60F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9F8D01-294C-443C-962E-6DC819B51BC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4DC9D8-7EC5-48BE-BD9C-89CCB4CD97A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725289-FD6F-4E6F-B963-6B0FB6815A9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D95D5D-E2E3-4EA7-ACD1-7748C4A181E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D0FEC7-1373-4E7E-8083-6C92B33F0A2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6750D2-2C1D-4D2E-AC3B-41EDA075503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A52F42-25A7-4A6C-8F1B-5594B35D0F6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C39031-0190-4363-8572-CC423461D9B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66082D-AAD1-4F1A-8C05-9BAA6F86209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46E5C2-C5FF-42A4-A40F-5B98018019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9966A-3E0F-4421-A205-A6A13EDB1DA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888616-5063-4DFE-94AD-DCD6393AFC7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DF5F13-18AE-4238-8E94-7C2AC3E4C0F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A540F-6E13-4E3D-B4A3-33C5007DEF3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39B064-8499-4418-9DE3-414922FD66C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880031-4D59-417E-B187-DDA9F473844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B47B98-885A-45E4-98FB-2C02A6F1BC3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B99E46-D4D1-4C85-A331-D25518377AA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BC813-E180-48D7-BE7F-5ADB1D2CC91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F4E6A-9450-49F1-A479-E6ED76FBAE6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91DAB-697A-4D3C-A184-5E7EB658FE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C736B-CF87-47E6-87D6-BC605CE9048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87013-70DF-4877-8DC7-8503087C8FB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1AAAA-4DBA-481C-AB94-701D79D2E52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0DB08-2CF9-4569-9BCD-D496B002B8F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C4419-0E57-4A55-9C5C-DB642E498D1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7E630-9CDA-49F2-A517-BD10F6FA14F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954F5-C7BE-4D96-A3BA-DA2E039096B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A1545-B079-4778-9739-DB5843F6C27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B5F1A-6386-4036-BC48-94CC6E5E089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83D94-A89E-4383-B65C-812C765DC85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25E7DC-269B-4E21-8E4C-752DB39878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49878-848E-4A61-B1C3-873CC55B3B6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1E94AE-9C5F-428A-B2E6-0B9CAF5A4A9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E6A626-CB95-4C7D-ACF7-E7E8AD9EEDD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CEADA8-4716-4F62-9C2B-819BAB5C7B8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15FB01-99EE-4850-80B8-DBF810C27F7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1DC312-8A2B-4B6C-888D-C4D7EC801D8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C98B7D-76D9-4CEA-800C-5B7EA8898EB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DFEA2F-8F77-4066-B009-C69AF65EB5A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855A76-06F2-40C1-9CD4-52782C2B585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BDE668-7995-4472-B4A8-9F8313B6C86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3B3D0B-25C3-47D3-92AD-3AED91F6B4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9AB07-FEE1-486B-A445-AABB963723C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1358BF-B27E-4D84-9E3B-BE7490ECF09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CF28DC-6076-438D-BFA8-18A6336EA89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28B1E0-D6BA-4D76-B9C1-E7064856F63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70F7DF-3490-42EE-8F84-D0C13E40EE3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8B5384-7E70-4BB8-994F-CBDDABF9FEA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4608F0-AD34-4C93-A9DA-DBD36675142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8631F8-4621-4C62-96B1-66BF47B55EE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1D4FBF-BCFA-4AAF-9BE3-B2D2B5E639A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AA3490-A4CE-40B2-BAD7-0F95271C977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EA8538-525B-45E7-B20A-280C79815F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D4181-CFD1-49E4-848D-B89F3DEF44F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A1C3E9-612A-474B-A757-9239FC89684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F64676-92AF-45EF-9CFC-CAC4CA629CF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9AF75E-8840-4229-BA5B-D9DF264CCF9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49686-704D-4F31-8AA1-D6E0342464B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1E535-FE3A-4829-91E2-5BAC42AE3CB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41BB0-BBC4-405C-B731-1A7CDF926B4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29632-2EC7-4C75-89CC-9E4C90BF349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DF32D-CA92-4FFB-8D91-C643FA9F0FA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00163-F591-4768-AEC7-CFE003E8293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6B827-7FDF-4C50-AC77-220323362F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B7CCB-117B-44CC-8CB8-614C690216D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3D9D9-03AC-450D-B3C2-C7D6F60F847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8A80A-A75A-4C21-A403-B778817653D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8EC8F-9CD5-48C1-BBED-8B954306446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5CDE2-D442-4A90-9A8F-12FCF19A5F5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EA8E6-2954-4DD5-9B26-5D973D4BAB7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A1E4D-35F0-454B-9C0C-0B210510CCA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E8868-19E5-461C-A1C4-672F4D2B60D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BE014-9333-4076-8354-B8AB6A85BD1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901AEB-A786-4A9B-A15F-7820E677E55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99DE8F-8144-4BE9-BF96-10DE4857A0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490B5-591F-4375-8B9E-3FC16A69401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61AFC-AF04-4F60-93BD-985EE1CBA0E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08C72-6992-4AE4-987D-3DE29303E30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B7B9C9-2132-45DB-B47A-07C4D3B7E5B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507AE-8E6C-4986-A5E1-190AA8E0E93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9C393-A07A-40F8-8376-81DF48B453F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0D32C9-F7CD-4075-BA0F-F7BCA2AB15D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49F24C-6892-405E-B5FF-1F0EEDEE5D7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BB725D-0606-4B88-99FC-2454D6148E5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63B843-D850-45E3-88D6-1FDA1F0D66E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6325BB-4FC3-4461-ABA8-9F49CDAC46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DFDC2-DBCA-4888-A62F-65983EAD386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55F73D-C976-468E-9679-C0CABC88683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231AA6-8086-422D-A921-1497B932326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875AE8-5B50-4CD7-B379-6723DFD23CF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48F490-5FF7-4B37-9DFF-37895E66C40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26D46C-0AF2-461C-8A58-8F076E5E42E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497159-B638-45BA-83C3-B50AE501C2B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EC91FA-5F4E-43BD-BFC4-FE8147AAA8C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90371F-23A0-4007-B8C1-5771CA103EA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1A24F4-F99F-4FE3-A213-39AACD6BA12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1B42E-12C4-4885-83CC-4BD9144426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AB583-1454-469F-8564-3D329A7EBA2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3276F-D4DA-4206-B253-1A272DB78E8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54119-5BB7-419C-A4D4-C9E27EC9FB9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F44F8-E67B-4EC6-8142-6AA25B4236D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EDC4D-A8A0-41D6-85CF-9CD79249F9E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0C160-B0DF-4F3A-BBA0-9125B3F4140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CD460-7BD7-4F12-8AC8-DEA01FCF4F9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843B2-33B2-44B9-A115-6C6CA8BA7A3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655E7-E37E-4247-8E6C-3DD18030A84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DDE31-4114-4BA8-9E31-DF916A03471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F8069-4605-40E9-B0F1-D4FCE12A07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E54-FB9B-4C99-AA58-F4266C05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8B719-B6E7-4775-BC48-E76FEE5129F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9BFDD-0F5F-4A13-A07D-794A1F462BC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3068A-891D-4BA0-A812-D3B8BED0B38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718A0-5F67-4045-96E1-A5CFC036365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4774A-7CFE-4994-80EE-CA5AAA6D3F6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F48BD0-9C44-43C2-BEDF-67AC0626F92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071BC-F530-4D15-BDC1-5CA84229984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10641F-F961-467F-8D3C-D405D3E202C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8154A2-3D28-4BCD-8457-36239F9C0F4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3BA13-76FF-4546-996A-5CCC5EC6F5D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4A043-9962-426A-B763-BD5E927A77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BB00A-FF46-4BFB-937A-0F33DB1F935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98F7F-E286-4A5C-B77E-57E44F1E5B0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763FE-B2DA-4D14-9588-79D813CC9A4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79CF0-C21F-4873-9625-D605631217B6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205943-C119-4F0D-BB25-EB6746C661AD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CDCDFA-010A-4345-8687-4A332B948E7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35913A-284C-4831-B003-90038AED9C18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8FE499-AB09-4525-BC19-030000366C8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FB2B1A-31B2-4D1A-997D-A38E7946E55C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54C0F2-543D-4BF2-B679-433D028C4265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C4BDFA-314C-4DE5-B913-7CC23464B9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80B81-F322-4AAC-AB74-61C841A7E8D0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9FC814-8D03-449F-9B68-D244B83B9A58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FCE33D-EE19-4AEC-9E48-0C3D241EE8A8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4337DE-25FC-4FA6-856A-A7BD0CF1BBD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9F42CB-014C-4149-B5DB-6398EF1320AC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097F26-0577-4604-96BE-5A54762FAEF7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4264F-417D-4C1B-9744-5DD569D3FCE6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C6F96-928A-42AD-802B-65B09A299595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5184F-C420-4754-BA26-90F9D2436ABB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D7176-2065-4947-99A5-49D9BD7CA2BB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F62A7-8B79-49BA-99FA-4E3173D99C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D2BDF-54A3-4B0A-846F-E4E97F60A1B8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6B0DB-7CA5-40B7-9887-62D457F86885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BD821-6131-4FFA-93FE-6573ACCE9182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D5F07-FF71-47DB-BEC8-DBA36DAC4F8E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F71E8-F9C7-4227-A1DA-51D571AECA61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9D30E-A88A-4386-A012-71F12CCE38DD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BDD75-A981-41C8-9C1A-B0EDBCCABA2B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85BE3-8172-48FB-9B10-43B237C1E218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D70F5E-9DB7-4F6E-8204-0FE6BB49E747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A37DD6-D750-4CDA-9E74-1F141EE6AE9C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BC759C-C942-480B-8AC1-25980083F9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A477C-A795-40B7-8002-F10A19D52D15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E1423C-A31C-4D4C-AF57-4D7CC327C285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B62B49-7E44-45CD-8D82-25D2D6B588DB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1CAB57-5A22-4B8E-9854-67F9A1CEFB0F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8B4EE2-9B01-4773-8E14-C1D43BD01244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488A33-D99A-42A4-923D-E0EF629B9568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D1C893-D524-4BC1-A78E-6B0D2AC71C51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7A1B38-E668-4481-9323-CFA77C1D375C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FB8661-CA96-4F84-9CCC-19CCD7D8FCA1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9E6382-33C1-45CC-B1FE-AFDE2519F229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15492E-43ED-4DBE-9605-7D1C84B5E1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4025E-C9DC-496C-9B12-44A877996106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FC6F1B-3C80-44FB-AD1B-CA0F6A705625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B9EE5F-5B32-4BBE-A255-664941E4E937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785055-39D0-4692-9871-3B03B00FCD7A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7F2A50-8D65-4570-AD2B-CF829231F771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0733F7-8AAC-47FE-9116-A01D1B24D613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752F46-9C04-471C-AF3D-1E5466F0B3C7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9D977A-81FC-498A-AB23-6E4EE3850594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B6A027-A995-4C5C-92F8-F3B1E26BABD4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DCBF53-8032-49B5-A5B0-C2BE05662256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69FC82-CCF4-4882-AAFD-29F38E8B81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C6B55-D2F1-4612-BB59-AC407EE5A65D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B10F5C-3994-4B5E-B35A-CDF43D377EAB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5EC84-8CFE-48BC-85AD-15A737647751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D6B27-3BC0-4D6C-8AB1-D297FD1FF972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6764D-7DFE-4598-ADA5-EA2A9F94BA5A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270D6-BF5B-4E72-B6F1-BDD128EBC456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E1F34-920D-4306-A209-C31B1872A477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7EAAC-7693-41AB-B29C-95F34DC42647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5AC25-AFE2-47A6-B0D6-281A31724D50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FECDD-7125-410E-A361-747C9E51CEF9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BCE82-6D26-4779-AFAB-E0A4B8BAA3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DC86-7136-40B9-87E3-B85158413270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BA224-F4D8-4C6D-90D8-3ABACD41A43E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BB333-BE9A-47EA-9A39-3278D73262E5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06D28-373D-40AC-96CA-101A679B1E0E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B39A1-117E-4753-9BE7-7BEEC91A7D9C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779CD-A1CA-4EE0-8960-AACBDAD4A885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0F0542-74AC-46D8-B0FC-23A596C9F6E4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6E6B9-D840-419E-B8AD-45BCABBF34BB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3B0BF0-B8B3-47E0-B483-48D92E766667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165C8-B4AE-4FA9-BE85-1A948F4A76E5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F76CB-9382-4F8F-8350-E7F1014C12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905F-9FDD-44D0-A343-96EFB03926A5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3E693-D4F9-44FE-93FF-A29E2B4DD45A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3CF93B-8F44-4D45-9D77-EC44354529D0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B59BC9-5640-41FD-95F0-0ED47C3804E2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FC029D-EAA4-44C2-A555-2584A605F73E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315075-0A6D-48F9-859E-E90D126C6864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B921ED-EEC1-4A7F-9AB5-CEB6C0A83496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253209-30F9-4AC0-8840-6E9B1C2FDAD3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2C62D2-C550-4818-8D61-7DB78F3447A3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05E400-22E5-4EE9-A7E8-EB76E311DB28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71FFC8-5237-455A-8D39-BBDDF6A161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2EA7-A8CE-45DB-8B05-2691E4CF6D56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6A315D-5141-49D0-917A-EDE977B338BD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A1AEB9-9666-4EE3-A8CB-137081E70DAA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D42CFC-C341-4410-90F6-EF220532EF93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338A51-DFB0-4616-81F9-DDDE5147B7CB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CAFE37-CF5D-4900-9434-98EAE6CDD0FA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1AFC99-0CD1-4C8F-ADD2-3015A7DDCAD6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A78B46-AED0-4588-92AA-FC52C9323446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1B1BE-AA8C-4A1F-B8FA-9089F43B5133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A626B-FBFA-4B8F-ADC1-214993973C0E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CA483-A749-44E9-9FC1-8C230CEFE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CAD-65B6-4920-934A-56CF9B89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908D-F3B1-4C4E-A4C9-0E95FFE9FC7C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48CBD-EFE4-421F-83FD-90B041169D1D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AB90D-AD1C-4656-BBC6-20D5A80502F5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B1FF2-3A6F-453E-9D65-B47316C274FF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30D24-3091-4867-8F34-C91AD2A5DF7E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6CB4D-6AE8-4B7A-8002-223AD0437CE9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D9A58-9A0D-468F-912B-5A1C8B9AFE4A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FA8D6-3E27-4C3C-922C-50425190F659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66A91-E94E-47B2-8A0E-FB86EA388C57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32BA5-BC6B-480C-A6EB-BF1C6B998518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062C61-B609-48CF-8BA3-ECA0FCE2B1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8229-5B3D-4220-BB21-B9FACE10F38E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594181-8095-49C8-8C81-72B670BEE33E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1B75BB7-9ABD-47E2-9DB6-AEAA2B63FFD2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B4F34B-177D-4FA0-A9D5-696655E5F825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2CD78F-7764-47A1-996F-22F0FE68A824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67DADF-2630-4DB6-850B-582F90F93047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4F58C5-11DC-4173-A505-57D381AEE04B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634E7C-F867-4329-80C4-9B26E83489C9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3CF039-7467-4F27-9442-F8CDB5B6F699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468C4B-7EEA-43F8-9E9C-725B99833C59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DC5596-2F05-48A2-8C11-7730D323AC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E58E-B9A0-4931-9D13-751946F87557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B84F85-DC8B-48F5-82F5-E9CABB22E5D9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F423A1-81BD-4093-8792-8D4C09981FAD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1E4254-7D4A-4A2A-8C8A-C96F7E4CF256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284D1B-86E8-4311-9E27-6FBF1BD379D5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CB5E11-615C-404C-B846-64792611E36F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318489-5834-424B-8805-9AD2FEA24CD0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2E75C9-5926-4E83-8A72-2D34B3FCCE05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61C72C-7ADC-4AE1-A259-F0EA83D0978A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3B0D14-315D-48DE-A7DC-2A167B7CDEB2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9B5828-6299-4D23-83E5-3A8EDFC316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4C59-1093-435E-A261-155BE2845D1C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8ED5AA-154C-4C9A-AB78-6DA07C5764AE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C7B86E-ACA4-4FA2-AA47-52D56F3F26FE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936587-6380-4CC3-99A0-31E5DD8E099C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3B202-EE79-4E0D-8308-AC4D0FF65D1E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C7F86-DC68-46C0-9CB1-466F0C2D002E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05264-6685-4A3F-AFAF-63A9D3CFED6A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05928-B98E-4E4B-A49D-1E6366617B87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359C3-A1D0-469E-8193-A5CB1ABD55DD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A99C25-D7C2-470E-9165-C06979441585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2E60D-F36C-4AAB-8104-104EA7AD85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1AF8-0F76-4D60-B41B-E491D11E2188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8FC5C-07B6-4CDD-BE9F-23D1B34A39ED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027F7F-C627-442C-9898-70AD947384B6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4C7B0-294D-4C31-A84D-396C7D764470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1D626-92AD-4407-BC10-24BA6C329D10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05D4C-82BD-401A-B2F9-E6D7FC5F10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3634-4B8B-4F65-A078-CC727E41E4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2ABE-E763-4F7C-869E-AFCEFD5459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B0A6-D401-47D1-8F6C-1EED77D35F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A687-99FF-497B-B163-62ED669BCC0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D72FEB-D815-44A4-ADAB-EEA3300CB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A09-C150-47C0-85D8-666A06A1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923425-1B27-4C2B-861E-EDAF70FB84F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2EE0E6-9E4E-4061-B524-6E36446FBBD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F9D2B4-8892-4349-818D-C15A932C737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50EBA4-F83B-450F-A24C-08476C255EC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9E8209-B434-43AC-9AE2-C13372A4B60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A97A03-25D2-4768-824E-674DB35D7F4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3CC308-E8AB-4E1A-B7CF-9CCE4BBC402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B40621-2C51-493E-B529-7C65AFA55EE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5C0D27-1CB9-400C-8305-36EDF0FB067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F61AB9-C503-4AD0-97BC-F15482C38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2D5-1D5E-4C37-B6DD-AD566B52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68F640-75E1-4803-BD92-E68BAFA87B9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E5F2A-F480-4C08-9E29-050E47B6AD4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2EE16-4B69-41DB-8CD3-4CD048C1FAB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1ED49-C859-4FA3-9B2B-900B394745B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6BBB1-05DE-4840-8E00-50413D8F742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FD6B7-1403-4FB1-882F-67549B1CC60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56414-221B-42F0-AC35-2D63A4698FE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5F535-77F0-4659-9BCB-C896FFDD601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9C9AC-C252-4F93-B3CB-EE01F06C046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E6DD1-2A13-4F51-92EA-2C039E159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F92-8B31-4872-911E-8814BCE3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B3536-E54C-4DFF-B5C1-AF5E2850E5D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195BC-ED6A-484E-8A4D-D7BF98300CC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86919-CB14-4F4E-B89E-101D49A5834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3DEAE-AC8D-4D48-8D80-B08B4D2C135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8991B-5021-43B9-9B77-0295D97A7DB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DEEFA-CD47-4D1F-981A-EA63BE95661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C1C81-4AF2-45A1-83E2-00E8769165B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A0EA5-8A2E-46BD-ACDF-0422711DE0B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A2EFA-FFD5-4FBB-BA73-B3D03354726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231C6-3C2B-480D-BD76-C47037267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9121-15BE-4E81-B8B7-9DEE0E5B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46BB9-7643-4E76-9502-2332CBC97EE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43336-5C94-4DD4-9F8B-4B468182E7E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DD42A-5F56-4DA2-A356-B4B574AD855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92F11-0A0F-4A50-94D3-48AB465B118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0CB02-C8A5-4824-A99C-7F7B67C88B3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7529B-CC4F-48CB-90D6-8EFF5349443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8A52D5-3F3E-405C-AE2E-6494D6F68FA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1953A3-CBBB-4F15-89B8-E016BA80E3B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F9A674-93D9-4D74-9BAD-DD12E0CBE06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27E34E-52B0-4551-9C56-595BD0108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59A-FB94-49EA-99DA-5BD884E1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8ADD11-17EB-46C2-8A70-5EAFFFC01B8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6FFED2-10BC-4533-B01C-0EC89ED34D4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BA7F37-4482-4E63-BBE3-7E299FBC6EC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EA9623-97FE-4268-BAC2-07D6DBA0DF5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B59169-490B-4803-8775-98CBD651EDF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77EF48-CAB4-47DF-9F38-6C35F9C2598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5B1519-5BB1-4ABC-AC40-742F34958ED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6FADE6-BC05-4BD2-9C58-950865882C7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FEFEC-9B76-48E9-827C-B0314145EF3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459E75-A7C3-4C86-81CA-D3CC3CACF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"/>
          <p:cNvSpPr/>
          <p:nvPr/>
        </p:nvSpPr>
        <p:spPr>
          <a:xfrm>
            <a:off x="609480" y="10969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66280" y="1439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5BAC-1438-4235-8EC3-D931119A4F27}" type="datetime"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15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023D-CA4D-493D-B5D9-71E0BCB2F69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7710480" y="5506920"/>
            <a:ext cx="1122480" cy="1351080"/>
            <a:chOff x="7710480" y="5506920"/>
            <a:chExt cx="1122480" cy="1351080"/>
          </a:xfrm>
        </p:grpSpPr>
        <p:pic>
          <p:nvPicPr>
            <p:cNvPr id="7" name="Picture 9" descr="健康署LOGO-OK-01"/>
            <p:cNvPicPr/>
            <p:nvPr/>
          </p:nvPicPr>
          <p:blipFill>
            <a:blip r:embed="rId2"/>
            <a:stretch/>
          </p:blipFill>
          <p:spPr>
            <a:xfrm>
              <a:off x="7710480" y="5506920"/>
              <a:ext cx="112248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文字方塊 1"/>
            <p:cNvSpPr/>
            <p:nvPr/>
          </p:nvSpPr>
          <p:spPr>
            <a:xfrm>
              <a:off x="8506080" y="5580000"/>
              <a:ext cx="28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2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8701-8220-4B11-8BEA-52B26D843DF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圖片 4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3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8BDE-C0C6-4DB8-BF63-A017BE02D08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4605-EEAE-4779-A5E0-E8A79ABC39D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Num" idx="1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CCF7-3B0E-4BFE-B01F-67F60C20EB2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Num" idx="1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0EB4-871F-4CE4-B289-AF5632E4C56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Num" idx="1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06A7-8918-4E77-A008-5079B01BCF4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圖片 1" descr="簡報封面及內頁-綠色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Num" idx="1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7E6B-2535-422D-8E4C-8EF953823FE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Num" idx="1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9FE9-B9EA-4A9B-B044-4865CA38BE6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群組 4"/>
          <p:cNvGrpSpPr/>
          <p:nvPr/>
        </p:nvGrpSpPr>
        <p:grpSpPr>
          <a:xfrm>
            <a:off x="-7920" y="0"/>
            <a:ext cx="9152280" cy="6858000"/>
            <a:chOff x="-7920" y="0"/>
            <a:chExt cx="9152280" cy="6858000"/>
          </a:xfrm>
        </p:grpSpPr>
        <p:pic>
          <p:nvPicPr>
            <p:cNvPr id="687" name="圖片 1" descr="簡報封面及內頁-綠色-03.jpg"/>
            <p:cNvPicPr/>
            <p:nvPr/>
          </p:nvPicPr>
          <p:blipFill>
            <a:blip r:embed="rId2"/>
            <a:stretch/>
          </p:blipFill>
          <p:spPr>
            <a:xfrm>
              <a:off x="-7920" y="0"/>
              <a:ext cx="91396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8" name="群組 6"/>
            <p:cNvGrpSpPr/>
            <p:nvPr/>
          </p:nvGrpSpPr>
          <p:grpSpPr>
            <a:xfrm>
              <a:off x="0" y="1150560"/>
              <a:ext cx="9144360" cy="1856160"/>
              <a:chOff x="0" y="1150560"/>
              <a:chExt cx="9144360" cy="1856160"/>
            </a:xfrm>
          </p:grpSpPr>
          <p:sp>
            <p:nvSpPr>
              <p:cNvPr id="689" name="矩形 7"/>
              <p:cNvSpPr/>
              <p:nvPr/>
            </p:nvSpPr>
            <p:spPr>
              <a:xfrm>
                <a:off x="0" y="1153800"/>
                <a:ext cx="9144360" cy="1852920"/>
              </a:xfrm>
              <a:prstGeom prst="rect">
                <a:avLst/>
              </a:prstGeom>
              <a:solidFill>
                <a:srgbClr val="96ba32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0" name="圖片 9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264600" y="1150560"/>
                <a:ext cx="778320" cy="77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sldNum" idx="20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A3FA-535F-42F5-8E17-5F657BFA110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1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D4D4-95C1-4EDA-931A-CCEE9DD759F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67675-7550-4300-AEA8-C1813DA8E3E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sldNum" idx="22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2D64-764E-45CE-9F68-D761FD38E5A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23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7D66-6232-47DE-9C41-52DDDD7C62A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圖片 4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sldNum" idx="2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03A9-C464-4500-AEDD-CCF65B91C98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sldNum" idx="2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689D-5708-4683-B3DD-B8C63B9074A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sldNum" idx="2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1248-DF43-484A-8B25-B00C0C7E314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sldNum" idx="2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6362-DB24-4735-A8D6-8E5F00FF996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sldNum" idx="2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0828-203F-4789-8591-F2CC6694D8A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圖片 1" descr="簡報封面及內頁-綠色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sldNum" idx="2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B3B7-14ED-4667-9C3F-91C9139F21B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sldNum" idx="30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D18C-8C3E-4199-8056-ECBBF4DDD9D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群組 4"/>
          <p:cNvGrpSpPr/>
          <p:nvPr/>
        </p:nvGrpSpPr>
        <p:grpSpPr>
          <a:xfrm>
            <a:off x="-7920" y="0"/>
            <a:ext cx="9152280" cy="6858000"/>
            <a:chOff x="-7920" y="0"/>
            <a:chExt cx="9152280" cy="6858000"/>
          </a:xfrm>
        </p:grpSpPr>
        <p:pic>
          <p:nvPicPr>
            <p:cNvPr id="1131" name="圖片 1" descr="簡報封面及內頁-綠色-03.jpg"/>
            <p:cNvPicPr/>
            <p:nvPr/>
          </p:nvPicPr>
          <p:blipFill>
            <a:blip r:embed="rId2"/>
            <a:stretch/>
          </p:blipFill>
          <p:spPr>
            <a:xfrm>
              <a:off x="-7920" y="0"/>
              <a:ext cx="91396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2" name="群組 6"/>
            <p:cNvGrpSpPr/>
            <p:nvPr/>
          </p:nvGrpSpPr>
          <p:grpSpPr>
            <a:xfrm>
              <a:off x="0" y="1150560"/>
              <a:ext cx="9144360" cy="1856160"/>
              <a:chOff x="0" y="1150560"/>
              <a:chExt cx="9144360" cy="1856160"/>
            </a:xfrm>
          </p:grpSpPr>
          <p:sp>
            <p:nvSpPr>
              <p:cNvPr id="1133" name="矩形 7"/>
              <p:cNvSpPr/>
              <p:nvPr/>
            </p:nvSpPr>
            <p:spPr>
              <a:xfrm>
                <a:off x="0" y="1153800"/>
                <a:ext cx="9144360" cy="1852920"/>
              </a:xfrm>
              <a:prstGeom prst="rect">
                <a:avLst/>
              </a:prstGeom>
              <a:solidFill>
                <a:srgbClr val="96ba32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圖片 9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264600" y="1150560"/>
                <a:ext cx="778320" cy="77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sldNum" idx="31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812D-51B8-4959-A659-FB48F2EA84F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DC84C-F351-4D40-9DA5-CF6EBA42D73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 type="sldNum" idx="32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EC9A-79AA-4957-8BD9-567A74AC3FE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sldNum" idx="33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C14D-4BCA-452E-8BAD-2B02AC4171F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sldNum" idx="3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A08A-3323-49EB-9FB7-A17850CAF66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4" name="圖片 4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 type="sldNum" idx="3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F9CF-3785-4A1A-B914-77F0D157D70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 type="sldNum" idx="3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9722-40C7-461B-A8B9-904521A99A1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sldNum" idx="3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F440-D5DE-4522-9586-A674FE54193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sldNum" idx="3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42F3-019C-4798-B4C6-65BD7EC4909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sldNum" idx="3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5834-81BC-40DC-A68F-F1161DCEEE2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9129F-F484-486E-88DA-258F8036C29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圖片 1" descr="簡報封面及內頁-綠色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D89F-239F-4735-8554-052DC94809B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C436-B8EF-4228-8DDD-AF56D1F8A1E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群組 4"/>
          <p:cNvGrpSpPr/>
          <p:nvPr/>
        </p:nvGrpSpPr>
        <p:grpSpPr>
          <a:xfrm>
            <a:off x="-7920" y="0"/>
            <a:ext cx="9152280" cy="6858000"/>
            <a:chOff x="-7920" y="0"/>
            <a:chExt cx="9152280" cy="6858000"/>
          </a:xfrm>
        </p:grpSpPr>
        <p:pic>
          <p:nvPicPr>
            <p:cNvPr id="243" name="圖片 1" descr="簡報封面及內頁-綠色-03.jpg"/>
            <p:cNvPicPr/>
            <p:nvPr/>
          </p:nvPicPr>
          <p:blipFill>
            <a:blip r:embed="rId2"/>
            <a:stretch/>
          </p:blipFill>
          <p:spPr>
            <a:xfrm>
              <a:off x="-7920" y="0"/>
              <a:ext cx="91396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群組 6"/>
            <p:cNvGrpSpPr/>
            <p:nvPr/>
          </p:nvGrpSpPr>
          <p:grpSpPr>
            <a:xfrm>
              <a:off x="0" y="1150560"/>
              <a:ext cx="9144360" cy="1856160"/>
              <a:chOff x="0" y="1150560"/>
              <a:chExt cx="9144360" cy="1856160"/>
            </a:xfrm>
          </p:grpSpPr>
          <p:sp>
            <p:nvSpPr>
              <p:cNvPr id="245" name="矩形 7"/>
              <p:cNvSpPr/>
              <p:nvPr/>
            </p:nvSpPr>
            <p:spPr>
              <a:xfrm>
                <a:off x="0" y="1153800"/>
                <a:ext cx="9144360" cy="1852920"/>
              </a:xfrm>
              <a:prstGeom prst="rect">
                <a:avLst/>
              </a:prstGeom>
              <a:solidFill>
                <a:srgbClr val="96ba32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6" name="圖片 9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264600" y="1150560"/>
                <a:ext cx="778320" cy="77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6C6A-AE46-40C4-BAAC-028361C1CE4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0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9162-291E-4D3D-B624-846F0D48B4F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1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2D3C-D494-4076-A2E1-C221B0C882C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-360" y="2865240"/>
            <a:ext cx="7348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8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</a:rPr>
              <a:t>年地方衛生機關業務考評</a:t>
            </a:r>
            <a:br>
              <a:rPr sz="4400"/>
            </a:br>
            <a:r>
              <a:rPr b="0" lang="zh-TW" sz="4400" spc="-1" strike="noStrike">
                <a:solidFill>
                  <a:srgbClr val="ffffff"/>
                </a:solidFill>
                <a:latin typeface="Times New Roman"/>
              </a:rPr>
              <a:t>保健類指標規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2274480" y="4597200"/>
            <a:ext cx="569124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衛生福利部國民健康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投影片編號版面配置區 3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4DAA-AC93-4777-8EAE-AC63AC9D7E4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投影片編號版面配置區 1"/>
          <p:cNvSpPr/>
          <p:nvPr/>
        </p:nvSpPr>
        <p:spPr>
          <a:xfrm>
            <a:off x="867564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D3A7-C821-46AA-B25E-A86CEE9CF4C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1" name=""/>
          <p:cNvGraphicFramePr/>
          <p:nvPr/>
        </p:nvGraphicFramePr>
        <p:xfrm>
          <a:off x="93600" y="1197000"/>
          <a:ext cx="8836200" cy="4946760"/>
        </p:xfrm>
        <a:graphic>
          <a:graphicData uri="http://schemas.openxmlformats.org/drawingml/2006/table">
            <a:tbl>
              <a:tblPr/>
              <a:tblGrid>
                <a:gridCol w="2778120"/>
                <a:gridCol w="441360"/>
                <a:gridCol w="2567160"/>
                <a:gridCol w="438120"/>
                <a:gridCol w="261144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814320"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肆、癌症篩檢與檳榔健康危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肆、癌症篩檢與檳榔健康危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細部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2302920">
                <a:tc>
                  <a:txBody>
                    <a:bodyPr anchor="t">
                      <a:noAutofit/>
                    </a:bodyPr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目標達成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達成率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口腔癌篩檢品質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目標達成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達成率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HPV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疫苗校園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口腔癌篩檢偵測率成長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組織性篩檢計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以大腸癌為篩檢重點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增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V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校園宣導」指標，提倡國一女生施打子宮頸癌疫苗，免受子宮頸癌威脅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篩檢陽性個案追蹤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篩檢陽性個案追蹤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細項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檳榔防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檳榔健康危害防制之規劃及推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刪除成人嚼檳榔盛行率指標並調整細項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32" name="Rectangle 2"/>
          <p:cNvSpPr/>
          <p:nvPr/>
        </p:nvSpPr>
        <p:spPr>
          <a:xfrm>
            <a:off x="250920" y="12708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F2A7-4FFF-49BF-BAEB-AF71379A6FC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12600" y="1052640"/>
          <a:ext cx="8964720" cy="5194080"/>
        </p:xfrm>
        <a:graphic>
          <a:graphicData uri="http://schemas.openxmlformats.org/drawingml/2006/table">
            <a:tbl>
              <a:tblPr/>
              <a:tblGrid>
                <a:gridCol w="2946600"/>
                <a:gridCol w="654120"/>
                <a:gridCol w="2619360"/>
                <a:gridCol w="653760"/>
                <a:gridCol w="209088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伍、婦幼健康促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伍、婦幼健康促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細部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3503880"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生性別比之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縮小出生性別差距之醫事人員教育訓練或民眾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母嬰親善的哺乳環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住民及新住民婦幼健康管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生兒聽力篩檢陽性個案完成確診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兒童近視防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性健康促進管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生性別比之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縮小出生性別差距之醫事人員教育訓練或民眾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母嬰親善的哺乳環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住民及新住民婦幼健康管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生兒聽力篩檢陽性個案完成確診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兒童近視防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性健康促進管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「營造母嬰親善的哺乳環境」中新增「</a:t>
                      </a:r>
                      <a:r>
                        <a:rPr b="0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轄區母乳哺育之醫護人員教育訓練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指標，以期醫護人員能有效教導婦女增加總母乳哺育率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「滿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兒童疑似異常個案完成確診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指標分數級距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Rectangle 2"/>
          <p:cNvSpPr/>
          <p:nvPr/>
        </p:nvSpPr>
        <p:spPr>
          <a:xfrm>
            <a:off x="250920" y="12708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EB84-DE49-4AA8-9EAE-F15A9F392A6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標題 2"/>
          <p:cNvSpPr/>
          <p:nvPr/>
        </p:nvSpPr>
        <p:spPr>
          <a:xfrm>
            <a:off x="574560" y="304920"/>
            <a:ext cx="8001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健康好幫手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</a:rPr>
              <a:t>!  --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守護國民  促進健康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內容版面配置區 2"/>
          <p:cNvSpPr/>
          <p:nvPr/>
        </p:nvSpPr>
        <p:spPr>
          <a:xfrm>
            <a:off x="4421160" y="1906560"/>
            <a:ext cx="472284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標楷體"/>
              </a:rPr>
              <a:t>促進健康 </a:t>
            </a:r>
            <a:r>
              <a:rPr b="1" lang="en-US" sz="3200" spc="-1" strike="noStrike">
                <a:solidFill>
                  <a:srgbClr val="cc0000"/>
                </a:solidFill>
                <a:latin typeface="Bauhaus 93"/>
              </a:rPr>
              <a:t>Promo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預防疾病 </a:t>
            </a:r>
            <a:r>
              <a:rPr b="1" lang="en-US" sz="3200" spc="-1" strike="noStrike">
                <a:solidFill>
                  <a:srgbClr val="006600"/>
                </a:solidFill>
                <a:latin typeface="Bauhaus 93"/>
              </a:rPr>
              <a:t>Preven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</a:rPr>
              <a:t>安全防護 </a:t>
            </a:r>
            <a:r>
              <a:rPr b="1" lang="en-US" sz="3200" spc="-1" strike="noStrike">
                <a:solidFill>
                  <a:srgbClr val="000099"/>
                </a:solidFill>
                <a:latin typeface="Bauhaus 93"/>
              </a:rPr>
              <a:t>Protec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</a:rPr>
              <a:t>共同參與 </a:t>
            </a:r>
            <a:r>
              <a:rPr b="1" lang="en-US" sz="3200" spc="-1" strike="noStrike">
                <a:solidFill>
                  <a:srgbClr val="ff0066"/>
                </a:solidFill>
                <a:latin typeface="Bauhaus 93"/>
              </a:rPr>
              <a:t>Particip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6600ff"/>
                </a:solidFill>
                <a:latin typeface="Times New Roman"/>
              </a:rPr>
              <a:t>夥伴合作  </a:t>
            </a:r>
            <a:r>
              <a:rPr b="0" lang="en-US" sz="3200" spc="-1" strike="noStrike">
                <a:solidFill>
                  <a:srgbClr val="6600ff"/>
                </a:solidFill>
                <a:latin typeface="Bauhaus 93"/>
              </a:rPr>
              <a:t>Partnershi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9" name="群組 4"/>
          <p:cNvGrpSpPr/>
          <p:nvPr/>
        </p:nvGrpSpPr>
        <p:grpSpPr>
          <a:xfrm>
            <a:off x="365040" y="1654200"/>
            <a:ext cx="4413240" cy="4162320"/>
            <a:chOff x="365040" y="1654200"/>
            <a:chExt cx="4413240" cy="4162320"/>
          </a:xfrm>
        </p:grpSpPr>
        <p:pic>
          <p:nvPicPr>
            <p:cNvPr id="1540" name="圖片 16" descr=""/>
            <p:cNvPicPr/>
            <p:nvPr/>
          </p:nvPicPr>
          <p:blipFill>
            <a:blip r:embed="rId1"/>
            <a:stretch/>
          </p:blipFill>
          <p:spPr>
            <a:xfrm>
              <a:off x="365040" y="4989960"/>
              <a:ext cx="4398480" cy="82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1" name="文字方塊 1"/>
            <p:cNvSpPr/>
            <p:nvPr/>
          </p:nvSpPr>
          <p:spPr>
            <a:xfrm>
              <a:off x="2517840" y="3666600"/>
              <a:ext cx="2260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9ec105"/>
                  </a:solidFill>
                  <a:latin typeface="Bauhaus 93"/>
                  <a:ea typeface="新細明體"/>
                </a:rPr>
                <a:t>HPA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2" name="圖片 3" descr=""/>
            <p:cNvPicPr/>
            <p:nvPr/>
          </p:nvPicPr>
          <p:blipFill>
            <a:blip r:embed="rId2"/>
            <a:stretch/>
          </p:blipFill>
          <p:spPr>
            <a:xfrm>
              <a:off x="994320" y="1654200"/>
              <a:ext cx="1543320" cy="32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090080" y="480600"/>
            <a:ext cx="805356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大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投影片編號版面配置區 3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DADD-B37A-4271-A4F5-2D0664DC6392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455760" y="134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壹、考評規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2007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壹、考評規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0095-674A-4CA3-B264-AFA8077FC70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9" name=""/>
          <p:cNvGraphicFramePr/>
          <p:nvPr/>
        </p:nvGraphicFramePr>
        <p:xfrm>
          <a:off x="4356000" y="1413000"/>
          <a:ext cx="4103640" cy="483228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99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衛生保健工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本指標分數係以下列子計畫總得分再乘以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8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健康生活環境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21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老年健康促進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29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癌症篩檢與檳榔健康危害防制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婦幼健康促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＊加分機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0" name=""/>
          <p:cNvGraphicFramePr/>
          <p:nvPr/>
        </p:nvGraphicFramePr>
        <p:xfrm>
          <a:off x="430200" y="1413000"/>
          <a:ext cx="3781440" cy="4830480"/>
        </p:xfrm>
        <a:graphic>
          <a:graphicData uri="http://schemas.openxmlformats.org/drawingml/2006/table">
            <a:tbl>
              <a:tblPr/>
              <a:tblGrid>
                <a:gridCol w="3781440"/>
              </a:tblGrid>
              <a:tr h="1009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工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本指標分數係以下列子計畫總得分再乘以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8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體策略目標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執法稽查取締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菸害防制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戒菸服務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菸環境與宣導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＊加分機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317520" y="404640"/>
            <a:ext cx="72007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壹、考評規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741C-2ED4-4701-8E98-A415BFEE380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文字方塊 6"/>
          <p:cNvSpPr/>
          <p:nvPr/>
        </p:nvSpPr>
        <p:spPr>
          <a:xfrm>
            <a:off x="747720" y="1413000"/>
            <a:ext cx="67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8</a:t>
            </a:r>
            <a:r>
              <a:rPr b="0" lang="zh-T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年</a:t>
            </a:r>
            <a:r>
              <a:rPr b="0" lang="zh-TW" sz="2800" spc="-1" strike="noStrike">
                <a:solidFill>
                  <a:srgbClr val="c00000"/>
                </a:solidFill>
                <a:latin typeface="Calibri"/>
              </a:rPr>
              <a:t>指標數量及配分說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4" name=""/>
          <p:cNvGraphicFramePr/>
          <p:nvPr/>
        </p:nvGraphicFramePr>
        <p:xfrm>
          <a:off x="539640" y="2276640"/>
          <a:ext cx="7777440" cy="1582560"/>
        </p:xfrm>
        <a:graphic>
          <a:graphicData uri="http://schemas.openxmlformats.org/drawingml/2006/table">
            <a:tbl>
              <a:tblPr/>
              <a:tblGrid>
                <a:gridCol w="1656000"/>
                <a:gridCol w="1224000"/>
                <a:gridCol w="936360"/>
                <a:gridCol w="720720"/>
                <a:gridCol w="1440000"/>
                <a:gridCol w="1008000"/>
                <a:gridCol w="792360"/>
              </a:tblGrid>
              <a:tr h="3661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子計畫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標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子計畫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標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工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衛生保健工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1597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1D96-9C21-4BD1-B47E-B526FEDF1CB2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7" name=""/>
          <p:cNvGraphicFramePr/>
          <p:nvPr/>
        </p:nvGraphicFramePr>
        <p:xfrm>
          <a:off x="108000" y="1171440"/>
          <a:ext cx="8893080" cy="5281920"/>
        </p:xfrm>
        <a:graphic>
          <a:graphicData uri="http://schemas.openxmlformats.org/drawingml/2006/table">
            <a:tbl>
              <a:tblPr/>
              <a:tblGrid>
                <a:gridCol w="2519280"/>
                <a:gridCol w="649440"/>
                <a:gridCol w="2590560"/>
                <a:gridCol w="649440"/>
                <a:gridCol w="24843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252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體策略目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人吸菸率下降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年吸菸率下降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體策略目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吸菸率下降目標達成情形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青少年電子煙吸食率下降目標達成情形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因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暫不進行「成人吸菸行為調查」，另青少年電子煙的吸食率已逐年快速攀升，期縣市納入未來青少年菸害防制重點工作項目，故增加「青少年電子煙吸食率下降目標達成情形」；未來將視該監測調查規劃情形配合修正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3400"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執法稽查取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平均合格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執法稽查取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平均合格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調整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F520-8538-46D0-96C0-F8C6616AE662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2"/>
          <p:cNvSpPr/>
          <p:nvPr/>
        </p:nvSpPr>
        <p:spPr>
          <a:xfrm>
            <a:off x="250920" y="18900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0" name=""/>
          <p:cNvGraphicFramePr/>
          <p:nvPr/>
        </p:nvGraphicFramePr>
        <p:xfrm>
          <a:off x="179280" y="1413000"/>
          <a:ext cx="8859960" cy="4743360"/>
        </p:xfrm>
        <a:graphic>
          <a:graphicData uri="http://schemas.openxmlformats.org/drawingml/2006/table">
            <a:tbl>
              <a:tblPr/>
              <a:tblGrid>
                <a:gridCol w="2484720"/>
                <a:gridCol w="755640"/>
                <a:gridCol w="2520720"/>
                <a:gridCol w="792360"/>
                <a:gridCol w="2306520"/>
              </a:tblGrid>
              <a:tr h="369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151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年菸害防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：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合格率（喬裝測試）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年菸害防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：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合格率（喬裝測試）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調整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戒菸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人二代戒菸服務人數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六個月點戒菸成功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戒菸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人二代戒菸服務人數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六個月點戒菸成功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期各縣市加強輔導醫療院所提供之戒菸服務，並提升戒菸成功率，故提高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E00F-D1B9-434A-AFA2-BA500808D88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2"/>
          <p:cNvSpPr/>
          <p:nvPr/>
        </p:nvSpPr>
        <p:spPr>
          <a:xfrm>
            <a:off x="250920" y="18900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3" name=""/>
          <p:cNvGraphicFramePr/>
          <p:nvPr/>
        </p:nvGraphicFramePr>
        <p:xfrm>
          <a:off x="128520" y="1268280"/>
          <a:ext cx="8702640" cy="5378760"/>
        </p:xfrm>
        <a:graphic>
          <a:graphicData uri="http://schemas.openxmlformats.org/drawingml/2006/table">
            <a:tbl>
              <a:tblPr/>
              <a:tblGrid>
                <a:gridCol w="2435400"/>
                <a:gridCol w="639720"/>
                <a:gridCol w="2305080"/>
                <a:gridCol w="801720"/>
                <a:gridCol w="2520720"/>
              </a:tblGrid>
              <a:tr h="3733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248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菸環境與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共場所二手菸暴露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職場二手菸暴露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菸環境與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青少年校園二手菸暴露率（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青少年室內公共場所二手菸暴露率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8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因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暫不進行「成人吸菸行為調查」，刪除「公共場所二手菸暴露率」、「職場二手菸暴露率」，增加「青少年校園二手菸暴露率」、「青少年室內公共場所二手菸暴露率」以監測各縣市無菸環境成果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目標達成情形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行政配合及處理時效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目標達成情形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行政配合及處理時效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為加強各縣市計畫目標達成情形，提高其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投影片編號版面配置區 1"/>
          <p:cNvSpPr/>
          <p:nvPr/>
        </p:nvSpPr>
        <p:spPr>
          <a:xfrm>
            <a:off x="867564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CBC3-814E-4FBB-B0A5-FDD8B405343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9200" y="620640"/>
          <a:ext cx="9055440" cy="6118200"/>
        </p:xfrm>
        <a:graphic>
          <a:graphicData uri="http://schemas.openxmlformats.org/drawingml/2006/table">
            <a:tbl>
              <a:tblPr/>
              <a:tblGrid>
                <a:gridCol w="2692440"/>
                <a:gridCol w="507960"/>
                <a:gridCol w="2946600"/>
                <a:gridCol w="436680"/>
                <a:gridCol w="24717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貳、營造健康生活環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貳、營造健康生活環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171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健康生活型態成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成年人及長者身體活動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1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肥胖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天天五蔬果攝取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健康生活型態成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提升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歲以上運動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歲以上肥胖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指標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運動盛行率」調整為「提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運動盛行率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刪除「提升天天五蔬果攝取比率」，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次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社區健康生活型態營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肥胖防治社區環境評估、行動改善計畫及成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設置社區營養衛生教育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辦理「校園周邊健康飲食輔導示範計畫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健康職場認證目標達成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辦理健康識能推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社區健康生活型態營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肥胖防治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推動「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『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我的餐盤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』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圖像推廣計畫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推動餐飲業者減鹽行動計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廣職場參與健康促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1974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增「推動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『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我的餐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』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圖像推廣計畫」」及「推動餐飲業者減鹽行動計畫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項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1974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各項指標細項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1974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6" name="Rectangle 2"/>
          <p:cNvSpPr/>
          <p:nvPr/>
        </p:nvSpPr>
        <p:spPr>
          <a:xfrm>
            <a:off x="324000" y="-100080"/>
            <a:ext cx="81597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投影片編號版面配置區 1"/>
          <p:cNvSpPr/>
          <p:nvPr/>
        </p:nvSpPr>
        <p:spPr>
          <a:xfrm>
            <a:off x="8675640" y="645336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07BF-7BC4-4A52-96BE-7D188EDC0E3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8" name=""/>
          <p:cNvGraphicFramePr/>
          <p:nvPr/>
        </p:nvGraphicFramePr>
        <p:xfrm>
          <a:off x="11160" y="260280"/>
          <a:ext cx="9132840" cy="6697800"/>
        </p:xfrm>
        <a:graphic>
          <a:graphicData uri="http://schemas.openxmlformats.org/drawingml/2006/table">
            <a:tbl>
              <a:tblPr/>
              <a:tblGrid>
                <a:gridCol w="2949480"/>
                <a:gridCol w="579600"/>
                <a:gridCol w="3184560"/>
                <a:gridCol w="650880"/>
                <a:gridCol w="176832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参、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中老年健康促進相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参、中老年健康促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及調整指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活躍老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6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長者規律運動比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高齡友善社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縣市長者組隊參與活躍老化競賽活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大眾對失智症認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活躍老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6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長者規律運動比率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高齡友善社區涵蓋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縣市長者組隊參與活躍老化競賽活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長者參與社區健促活動比率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大眾對失智症的認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增「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長者參與社區健促活動比率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「提升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眾對失智症的認知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，以營造失智支持友善環境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慢性病照護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轄區糖尿病患加入糖尿病品質支付服務方案比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醫療院所糖尿病人尿液微量白蛋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croalbumin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之檢查率及進步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衛生所慢性病防治照護量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轄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民眾對腰圍警戒值認知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民眾利用成人預防保健服務之人數成長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慢性病照護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轄區糖尿病患加入糖尿病品質支付服務方案比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醫療院所糖尿病人眼底檢查或眼底彩色攝影之檢查率及進步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轄區機構推動健康促進服務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含高齡友善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成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民眾利用成人預防保健服務及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型肝炎篩檢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之人數成長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規劃及推動高血壓防治方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輔導轄區基層診所參與慢性病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含衰弱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預防及糖尿病品質照護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為新增「各縣市成人預防保健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肝炎篩檢利用率」、「規劃及推動高血壓防治方案」及「輔導轄區基層診所參與慢性病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含衰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預防及糖尿病品質照護服務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細項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9" name="Rectangle 2"/>
          <p:cNvSpPr/>
          <p:nvPr/>
        </p:nvSpPr>
        <p:spPr>
          <a:xfrm>
            <a:off x="468360" y="-243000"/>
            <a:ext cx="81597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9:44:09Z</dcterms:created>
  <dc:creator>ST</dc:creator>
  <dc:description/>
  <dc:language>en-US</dc:language>
  <cp:lastModifiedBy>健康服務品質政策辦公室周青慧</cp:lastModifiedBy>
  <cp:lastPrinted>2018-11-19T01:58:33Z</cp:lastPrinted>
  <dcterms:modified xsi:type="dcterms:W3CDTF">2018-11-23T10:17:39Z</dcterms:modified>
  <cp:revision>1966</cp:revision>
  <dc:subject/>
  <dc:title>醫學人文導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